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3.wmf" ContentType="image/x-wmf"/>
  <Override PartName="/ppt/media/image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4.wmf" ContentType="image/x-wmf"/>
  <Override PartName="/ppt/media/image3.png" ContentType="image/png"/>
  <Override PartName="/ppt/media/image5.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47D11-C012-47B9-AA79-053FBF8FE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82316-C89F-4D94-B84D-1195B06F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3F95F-92EE-4BBE-851F-A9DC1EE6B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DD478-7017-4EA1-8C91-CF8E88162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C38BA-958C-493D-9A14-65BAE9235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AFC0C-7F4E-4694-AE1A-366473ECF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BC2FF-C6D5-4876-B035-FB1B866C4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7CD98-315C-4C09-BA33-9753EF6B9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CEE09-1F75-48C4-9103-283499E79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3B7C9-784E-471B-9CF1-E4C58CEDD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00B9D-9AE5-4579-8A28-F2A9B5D64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8137-5085-4765-A089-121E179E4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A2C0A-DA9E-48D1-BC50-58DB3CBF8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BF8B6-C452-4889-B0ED-581AB50B7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DB249-6A3B-42F6-8C49-4043292FD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25388-E7B0-40CA-917C-5A726DAED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F7174-E4A5-40EC-9D35-AC5BD0B72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573EF-1C16-4984-8914-5296C2A27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2A456-BD6D-41E8-A038-0187D2BB9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60687-1EA7-4D93-8960-BB5A776C7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F1486-9013-4252-A328-13C93842F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C5E2-B6A8-4607-9E44-ACCF1ACA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AC86-9B59-4F15-90F9-B9C68F92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D7E5-4B58-4123-A0BD-07E10DD9B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90AD-6D95-4AF9-9C4E-7957B71B7F9B}" type="slidenum">
              <a:rPr b="0" lang="en-US"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36DF-7C22-40EA-8568-437CCEB8E519}" type="slidenum">
              <a:rPr b="0" lang="en-US"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20840" y="1371600"/>
            <a:ext cx="8229600" cy="240840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Steven Pajewski</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4136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bls.gov/oco/ocos091.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bls.gov/oco/ocos109.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federalgovernmentjobs.us/jobs/Aircraft-Engine-Mechanic-2031217.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garmin.com/garmin/cms/us/careers/job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34136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vie indu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ave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verview</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6" name="Picture 4" descr="C:\Documents and Settings\jbartolo\Local Settings\Temporary Internet Files\Content.IE5\MNMR9XWV\MC900291912[1].wmf"/>
          <p:cNvPicPr/>
          <p:nvPr/>
        </p:nvPicPr>
        <p:blipFill>
          <a:blip r:embed="rId2"/>
          <a:stretch/>
        </p:blipFill>
        <p:spPr>
          <a:xfrm>
            <a:off x="4724280" y="1447920"/>
            <a:ext cx="2006640" cy="1315800"/>
          </a:xfrm>
          <a:prstGeom prst="rect">
            <a:avLst/>
          </a:prstGeom>
          <a:ln w="0">
            <a:noFill/>
          </a:ln>
        </p:spPr>
      </p:pic>
      <p:pic>
        <p:nvPicPr>
          <p:cNvPr id="87" name="Picture 5" descr="C:\Documents and Settings\jbartolo\Local Settings\Temporary Internet Files\Content.IE5\MNMR9XWV\MC900055420[1].wmf"/>
          <p:cNvPicPr/>
          <p:nvPr/>
        </p:nvPicPr>
        <p:blipFill>
          <a:blip r:embed="rId3"/>
          <a:stretch/>
        </p:blipFill>
        <p:spPr>
          <a:xfrm>
            <a:off x="4546440" y="3352680"/>
            <a:ext cx="2928960" cy="231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34136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dio equipment technici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lm/Video editors</a:t>
            </a:r>
            <a:endParaRPr b="0" lang="en-US" sz="2800" spc="-1" strike="noStrike">
              <a:solidFill>
                <a:srgbClr val="ffffff"/>
              </a:solidFill>
              <a:latin typeface="Book Antiqua"/>
            </a:endParaRPr>
          </a:p>
        </p:txBody>
      </p:sp>
      <p:pic>
        <p:nvPicPr>
          <p:cNvPr id="90" name="Picture 5" descr="C:\Documents and Settings\jbartolo\Local Settings\Temporary Internet Files\Content.IE5\U85YI6RM\MC900149744[1].wmf"/>
          <p:cNvPicPr/>
          <p:nvPr/>
        </p:nvPicPr>
        <p:blipFill>
          <a:blip r:embed="rId2"/>
          <a:stretch/>
        </p:blipFill>
        <p:spPr>
          <a:xfrm>
            <a:off x="6889680" y="1066680"/>
            <a:ext cx="1392480" cy="2044800"/>
          </a:xfrm>
          <a:prstGeom prst="rect">
            <a:avLst/>
          </a:prstGeom>
          <a:ln w="0">
            <a:noFill/>
          </a:ln>
        </p:spPr>
      </p:pic>
      <p:pic>
        <p:nvPicPr>
          <p:cNvPr id="91" name="Picture 7" descr="C:\Documents and Settings\jbartolo\Local Settings\Temporary Internet Files\Content.IE5\MNMR9XWV\MC900250128[1].wmf"/>
          <p:cNvPicPr/>
          <p:nvPr/>
        </p:nvPicPr>
        <p:blipFill>
          <a:blip r:embed="rId3"/>
          <a:stretch/>
        </p:blipFill>
        <p:spPr>
          <a:xfrm>
            <a:off x="4038480" y="2971800"/>
            <a:ext cx="277524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378000" y="274680"/>
            <a:ext cx="8480160" cy="134136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dio and video equipment technicians should complete a technical-training program related to the fiel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enerally indo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0 hour work wee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pect work on holiday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verage income : $39,410</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4" name="Picture 6" descr="C:\Documents and Settings\jbartolo\Local Settings\Temporary Internet Files\Content.IE5\U85YI6RM\MC900197813[1].wmf"/>
          <p:cNvPicPr/>
          <p:nvPr/>
        </p:nvPicPr>
        <p:blipFill>
          <a:blip r:embed="rId2"/>
          <a:stretch/>
        </p:blipFill>
        <p:spPr>
          <a:xfrm>
            <a:off x="6019920" y="2975040"/>
            <a:ext cx="220968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7200" y="274680"/>
            <a:ext cx="8229600" cy="134136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ducation: Community/Junior College some Votech wor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ose employed by television and cable networks or advertising agencies may work long hours to meet production schedules. ENG operators often work long, irregular hours and must be available to work on short noti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dian annual wages were $40,910 in the motion picture and video industrie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457200" y="274680"/>
            <a:ext cx="8229600" cy="134136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gine mechani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viation Technical Writer</a:t>
            </a:r>
            <a:endParaRPr b="0" lang="en-US" sz="2800" spc="-1" strike="noStrike">
              <a:solidFill>
                <a:srgbClr val="ffffff"/>
              </a:solidFill>
              <a:latin typeface="Book Antiqua"/>
            </a:endParaRPr>
          </a:p>
        </p:txBody>
      </p:sp>
      <p:pic>
        <p:nvPicPr>
          <p:cNvPr id="99" name="Picture 4" descr="C:\Documents and Settings\jbartolo\Local Settings\Temporary Internet Files\Content.IE5\MNMR9XWV\MC900388664[1].wmf"/>
          <p:cNvPicPr/>
          <p:nvPr/>
        </p:nvPicPr>
        <p:blipFill>
          <a:blip r:embed="rId2"/>
          <a:stretch/>
        </p:blipFill>
        <p:spPr>
          <a:xfrm>
            <a:off x="6632640" y="762120"/>
            <a:ext cx="1782720" cy="1830240"/>
          </a:xfrm>
          <a:prstGeom prst="rect">
            <a:avLst/>
          </a:prstGeom>
          <a:ln w="0">
            <a:noFill/>
          </a:ln>
        </p:spPr>
      </p:pic>
      <p:pic>
        <p:nvPicPr>
          <p:cNvPr id="100" name="Picture 5" descr="C:\Documents and Settings\jbartolo\Local Settings\Temporary Internet Files\Content.IE5\U85YI6RM\MC900030082[1].wmf"/>
          <p:cNvPicPr/>
          <p:nvPr/>
        </p:nvPicPr>
        <p:blipFill>
          <a:blip r:embed="rId3"/>
          <a:stretch/>
        </p:blipFill>
        <p:spPr>
          <a:xfrm>
            <a:off x="4243320" y="3505320"/>
            <a:ext cx="227484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7200" y="274680"/>
            <a:ext cx="8229600" cy="134136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s an Aircraft Engine Mechanic, WG-10 Potential WG-11, you will modify, troubleshoot and repair specially instrumented, standard experimental, pre-production, production, and or modified aircraft engines used as test articles to include calibration and or repair of sub-assemblies and parts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st know some sort of background in fiel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ull time job</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alary: $22.00 to $27.00</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7200" y="274680"/>
            <a:ext cx="8229600" cy="134136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min AT is seeking an Aviation Technical Writer to create reader-friendly aviation user's guides and installation and maintenance manua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quirements</a:t>
            </a:r>
            <a:endParaRPr b="0" lang="en-US" sz="28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llege or equivalent</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ectronics background</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rafting/Cad experie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vate pilot license </a:t>
            </a:r>
            <a:endParaRPr b="0" lang="en-US" sz="2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ull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1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ok Antiqua"/>
              </a:rPr>
              <a:t>Thank you, Any questions?</a:t>
            </a: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21:19Z</dcterms:created>
  <dc:creator>Steven Pajewski</dc:creator>
  <dc:description/>
  <dc:language>en-US</dc:language>
  <cp:lastModifiedBy>JAMES BARTOLOMEO</cp:lastModifiedBy>
  <dcterms:modified xsi:type="dcterms:W3CDTF">2010-09-16T14:41:14Z</dcterms:modified>
  <cp:revision>8</cp:revision>
  <dc:subject/>
  <dc:title>Tech Talk</dc:title>
</cp:coreProperties>
</file>